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1.jpeg" ContentType="image/jpeg"/>
  <Override PartName="/ppt/media/image8.gif" ContentType="image/gif"/>
  <Override PartName="/ppt/media/image7.gif" ContentType="image/gif"/>
  <Override PartName="/ppt/media/image10.jpeg" ContentType="image/jpeg"/>
  <Override PartName="/ppt/media/image6.gif" ContentType="image/gif"/>
  <Override PartName="/ppt/media/image9.png" ContentType="image/png"/>
  <Override PartName="/ppt/media/image19.jpeg" ContentType="image/jpeg"/>
  <Override PartName="/ppt/media/image1.jpeg" ContentType="image/jpeg"/>
  <Override PartName="/ppt/media/image20.png" ContentType="image/png"/>
  <Override PartName="/ppt/media/image18.png" ContentType="image/png"/>
  <Override PartName="/ppt/media/image15.jpeg" ContentType="image/jpeg"/>
  <Override PartName="/ppt/media/image16.jpeg" ContentType="image/jpeg"/>
  <Override PartName="/ppt/media/image2.png" ContentType="image/png"/>
  <Override PartName="/ppt/media/image3.png" ContentType="image/png"/>
  <Override PartName="/ppt/media/image17.jpeg" ContentType="image/jpeg"/>
  <Override PartName="/ppt/media/image14.jpeg" ContentType="image/jpeg"/>
  <Override PartName="/ppt/media/image5.gif" ContentType="image/gif"/>
  <Override PartName="/ppt/media/image4.png" ContentType="image/png"/>
  <Override PartName="/ppt/media/image13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EDA0F9-15BF-4F59-8984-415E3E0D472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208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30280"/>
            <a:ext cx="8182080" cy="19965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6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6920"/>
            <a:ext cx="8182080" cy="19965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6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511AB7-0A64-4FE0-B131-5858DFD00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208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30280"/>
            <a:ext cx="3992760" cy="19965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6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200" y="530280"/>
            <a:ext cx="3992760" cy="19965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6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6920"/>
            <a:ext cx="3992760" cy="19965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6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200" y="2716920"/>
            <a:ext cx="3992760" cy="19965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6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4ABB4F-F9BE-4F70-B81C-5B7F009B5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208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30280"/>
            <a:ext cx="2634480" cy="19965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6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69880" y="530280"/>
            <a:ext cx="2634480" cy="19965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6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6480" y="530280"/>
            <a:ext cx="2634480" cy="19965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6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6920"/>
            <a:ext cx="2634480" cy="19965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6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69880" y="2716920"/>
            <a:ext cx="2634480" cy="19965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6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6480" y="2716920"/>
            <a:ext cx="2634480" cy="19965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6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C10429-6328-4C8A-B67C-943E35EEE7A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D59FB8-6705-43BD-B1D7-BA7D755E602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208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503280" y="530280"/>
            <a:ext cx="8182080" cy="41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26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78B2EC-D464-4133-81D7-44EE7108A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208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3280" y="530280"/>
            <a:ext cx="8182080" cy="4186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6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E5EFD2-1B86-4FF4-B0C1-F6EDFB000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208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03280" y="530280"/>
            <a:ext cx="3992760" cy="4186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6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96200" y="530280"/>
            <a:ext cx="3992760" cy="4186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6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E7F58B-A4AD-435A-8075-B9556B286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208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EFC2ED-EC38-459A-98D1-81451C614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208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264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2BC5A2-4484-4277-AA9D-EF878C175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208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30280"/>
            <a:ext cx="3992760" cy="19965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6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200" y="530280"/>
            <a:ext cx="3992760" cy="4186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6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3280" y="2716920"/>
            <a:ext cx="3992760" cy="19965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6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181205-3ED7-4DBF-A9DA-5277D6B60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208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30280"/>
            <a:ext cx="8182080" cy="41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26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562C05-5ED9-44C4-9B31-D3B70E33E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208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30280"/>
            <a:ext cx="3992760" cy="4186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6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200" y="530280"/>
            <a:ext cx="3992760" cy="19965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6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96200" y="2716920"/>
            <a:ext cx="3992760" cy="19965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6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66A1AD-AF33-426B-9460-80817BB2E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208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30280"/>
            <a:ext cx="3992760" cy="19965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6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96200" y="530280"/>
            <a:ext cx="3992760" cy="19965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6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03280" y="2716920"/>
            <a:ext cx="8182080" cy="19965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6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0465D6-5392-4038-A00D-DC2D80912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208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03280" y="530280"/>
            <a:ext cx="8182080" cy="19965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6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3280" y="2716920"/>
            <a:ext cx="8182080" cy="19965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6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4B1C0D-1546-49A4-83F0-2316A81D8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208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03280" y="530280"/>
            <a:ext cx="3992760" cy="19965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6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96200" y="530280"/>
            <a:ext cx="3992760" cy="19965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6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03280" y="2716920"/>
            <a:ext cx="3992760" cy="19965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6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96200" y="2716920"/>
            <a:ext cx="3992760" cy="19965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6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DE54DD-1080-4F2B-9587-724F295CA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208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03280" y="530280"/>
            <a:ext cx="2634480" cy="19965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6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69880" y="530280"/>
            <a:ext cx="2634480" cy="19965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6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36480" y="530280"/>
            <a:ext cx="2634480" cy="19965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6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03280" y="2716920"/>
            <a:ext cx="2634480" cy="19965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6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69880" y="2716920"/>
            <a:ext cx="2634480" cy="19965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6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36480" y="2716920"/>
            <a:ext cx="2634480" cy="19965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6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9D9917-06AD-4749-B0FC-3E69F9E8E8D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693F0-7A0C-404C-A456-EF40F1D17CD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208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503280" y="530280"/>
            <a:ext cx="8182080" cy="41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26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C1EA9-5042-4ED5-9A8E-2D9C41C20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208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3280" y="530280"/>
            <a:ext cx="8182080" cy="4186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6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D60D0-D5BC-4936-A81F-F868FA65B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208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3280" y="530280"/>
            <a:ext cx="3992760" cy="4186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6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96200" y="530280"/>
            <a:ext cx="3992760" cy="4186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6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EAA70-0560-4FAE-ADCC-87A7E5BB8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208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7876B-5DD6-4941-B164-6820B485A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208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30280"/>
            <a:ext cx="8182080" cy="4186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6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FBEB57-D8D3-40A1-81DD-95FA14501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208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264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22002-FA09-416F-A8C2-AFDD20134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208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30280"/>
            <a:ext cx="3992760" cy="19965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6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200" y="530280"/>
            <a:ext cx="3992760" cy="4186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6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6920"/>
            <a:ext cx="3992760" cy="19965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6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AD955-B53C-421B-9641-F572585D9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208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30280"/>
            <a:ext cx="3992760" cy="4186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6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96200" y="530280"/>
            <a:ext cx="3992760" cy="19965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6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96200" y="2716920"/>
            <a:ext cx="3992760" cy="19965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6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40638-CC87-4749-8904-89BAEACD1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208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03280" y="530280"/>
            <a:ext cx="3992760" cy="19965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6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96200" y="530280"/>
            <a:ext cx="3992760" cy="19965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6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03280" y="2716920"/>
            <a:ext cx="8182080" cy="19965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6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D69C9-9216-43FA-AA8D-B6CB04078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208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30280"/>
            <a:ext cx="8182080" cy="19965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6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03280" y="2716920"/>
            <a:ext cx="8182080" cy="19965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6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F45CD-8CD3-40CA-B1E7-3828E406D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208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3280" y="530280"/>
            <a:ext cx="3992760" cy="19965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6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96200" y="530280"/>
            <a:ext cx="3992760" cy="19965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6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503280" y="2716920"/>
            <a:ext cx="3992760" cy="19965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6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96200" y="2716920"/>
            <a:ext cx="3992760" cy="19965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6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E1677-F576-4B3F-8895-86F9505FB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208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3280" y="530280"/>
            <a:ext cx="2634480" cy="19965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6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269880" y="530280"/>
            <a:ext cx="2634480" cy="19965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6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036480" y="530280"/>
            <a:ext cx="2634480" cy="19965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6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503280" y="2716920"/>
            <a:ext cx="2634480" cy="19965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6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269880" y="2716920"/>
            <a:ext cx="2634480" cy="19965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6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036480" y="2716920"/>
            <a:ext cx="2634480" cy="19965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6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698FB-515C-41CC-9340-F45F0E39552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1B264ED-4659-4268-9463-B479970B4E3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208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503280" y="530280"/>
            <a:ext cx="8182080" cy="41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26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9688C8-D48B-4BD8-8048-4D200EA4B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208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3280" y="530280"/>
            <a:ext cx="8182080" cy="4186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6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5516B1C-AB9C-40C1-AEDF-B477A06ED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208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30280"/>
            <a:ext cx="3992760" cy="4186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6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200" y="530280"/>
            <a:ext cx="3992760" cy="4186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6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F96BA1-7487-425D-9D1D-12CD9470E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208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03280" y="530280"/>
            <a:ext cx="3992760" cy="4186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6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96200" y="530280"/>
            <a:ext cx="3992760" cy="4186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6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F297BD-4F10-4914-9406-BAF907F4F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208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A371C3-DDC7-49FA-9492-95AA263F8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208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264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B94D1AF-1FA0-457B-B6AB-EFB80F370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208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30280"/>
            <a:ext cx="3992760" cy="19965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6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96200" y="530280"/>
            <a:ext cx="3992760" cy="4186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6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3280" y="2716920"/>
            <a:ext cx="3992760" cy="19965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6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6BBC620-AB66-4923-89A3-26642A0AC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208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3280" y="530280"/>
            <a:ext cx="3992760" cy="4186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6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96200" y="530280"/>
            <a:ext cx="3992760" cy="19965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6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696200" y="2716920"/>
            <a:ext cx="3992760" cy="19965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6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EAC6F4D-F144-485F-802A-47DFF0158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208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30280"/>
            <a:ext cx="3992760" cy="19965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6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96200" y="530280"/>
            <a:ext cx="3992760" cy="19965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6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503280" y="2716920"/>
            <a:ext cx="8182080" cy="19965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6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17F52F0-6B06-4E01-AFE9-DA423A0E0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208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3280" y="530280"/>
            <a:ext cx="8182080" cy="19965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6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03280" y="2716920"/>
            <a:ext cx="8182080" cy="19965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6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14C96C5-502B-418E-B6B9-25441E63B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208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03280" y="530280"/>
            <a:ext cx="3992760" cy="19965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6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96200" y="530280"/>
            <a:ext cx="3992760" cy="19965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6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503280" y="2716920"/>
            <a:ext cx="3992760" cy="19965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6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696200" y="2716920"/>
            <a:ext cx="3992760" cy="19965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6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3B4703A-2BCE-4460-9CA6-3C487005B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208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3280" y="530280"/>
            <a:ext cx="2634480" cy="19965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6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3269880" y="530280"/>
            <a:ext cx="2634480" cy="19965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6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036480" y="530280"/>
            <a:ext cx="2634480" cy="19965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6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503280" y="2716920"/>
            <a:ext cx="2634480" cy="19965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6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6"/>
          <p:cNvSpPr>
            <a:spLocks noGrp="1"/>
          </p:cNvSpPr>
          <p:nvPr>
            <p:ph/>
          </p:nvPr>
        </p:nvSpPr>
        <p:spPr>
          <a:xfrm>
            <a:off x="3269880" y="2716920"/>
            <a:ext cx="2634480" cy="19965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6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7"/>
          <p:cNvSpPr>
            <a:spLocks noGrp="1"/>
          </p:cNvSpPr>
          <p:nvPr>
            <p:ph/>
          </p:nvPr>
        </p:nvSpPr>
        <p:spPr>
          <a:xfrm>
            <a:off x="6036480" y="2716920"/>
            <a:ext cx="2634480" cy="19965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6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2B8241F-BF2E-4C8A-98AE-DB55BCEA265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2978879-5FA9-4165-9383-94D5641ECBE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208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1D70F8-9A8A-43DE-A274-064FB3A8F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208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503280" y="530280"/>
            <a:ext cx="8182080" cy="41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26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7332EAE-FB7E-41C5-9662-5D4EE633E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208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3280" y="530280"/>
            <a:ext cx="8182080" cy="4186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6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34586BE-1C07-4EAF-8A82-8CA0FB8B9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208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503280" y="530280"/>
            <a:ext cx="3992760" cy="4186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6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96200" y="530280"/>
            <a:ext cx="3992760" cy="4186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6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0A19829-0E86-4777-8F1A-E716E3F18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208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DDC97AC-17C1-4893-9D47-8BA11FF1D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208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264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065545E-974C-441C-800D-FD7CA2021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208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3280" y="530280"/>
            <a:ext cx="3992760" cy="19965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6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96200" y="530280"/>
            <a:ext cx="3992760" cy="4186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6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503280" y="2716920"/>
            <a:ext cx="3992760" cy="19965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6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7CB3050-9D5D-4A22-9D74-D302F29CC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208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30280"/>
            <a:ext cx="3992760" cy="4186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6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96200" y="530280"/>
            <a:ext cx="3992760" cy="19965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6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696200" y="2716920"/>
            <a:ext cx="3992760" cy="19965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6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7E698D9-E12F-4A57-B9F7-9419BEA4D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208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3280" y="530280"/>
            <a:ext cx="3992760" cy="19965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6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96200" y="530280"/>
            <a:ext cx="3992760" cy="19965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6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503280" y="2716920"/>
            <a:ext cx="8182080" cy="19965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6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CCF383C-CE07-4B4B-A29B-7E40B56FB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208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03280" y="530280"/>
            <a:ext cx="8182080" cy="19965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6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503280" y="2716920"/>
            <a:ext cx="8182080" cy="19965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6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9098D71-865A-48E1-95D4-35A8E7A95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208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3280" y="530280"/>
            <a:ext cx="3992760" cy="19965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6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96200" y="530280"/>
            <a:ext cx="3992760" cy="19965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6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503280" y="2716920"/>
            <a:ext cx="3992760" cy="19965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6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696200" y="2716920"/>
            <a:ext cx="3992760" cy="19965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6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2BA6AFE-633A-4C95-AB0C-5E26A2553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208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264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0665EC-D435-4CEB-B484-143686447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208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503280" y="530280"/>
            <a:ext cx="2634480" cy="19965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6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269880" y="530280"/>
            <a:ext cx="2634480" cy="19965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6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036480" y="530280"/>
            <a:ext cx="2634480" cy="19965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6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503280" y="2716920"/>
            <a:ext cx="2634480" cy="19965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6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/>
          </p:nvPr>
        </p:nvSpPr>
        <p:spPr>
          <a:xfrm>
            <a:off x="3269880" y="2716920"/>
            <a:ext cx="2634480" cy="19965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6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7"/>
          <p:cNvSpPr>
            <a:spLocks noGrp="1"/>
          </p:cNvSpPr>
          <p:nvPr>
            <p:ph/>
          </p:nvPr>
        </p:nvSpPr>
        <p:spPr>
          <a:xfrm>
            <a:off x="6036480" y="2716920"/>
            <a:ext cx="2634480" cy="19965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6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41F0801-3769-4F2A-8921-DDBD16EB8BD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208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30280"/>
            <a:ext cx="3992760" cy="19965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6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200" y="530280"/>
            <a:ext cx="3992760" cy="4186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6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6920"/>
            <a:ext cx="3992760" cy="19965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6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89EB48-8A63-41B9-82F4-26632369A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208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30280"/>
            <a:ext cx="3992760" cy="4186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6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200" y="530280"/>
            <a:ext cx="3992760" cy="19965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6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200" y="2716920"/>
            <a:ext cx="3992760" cy="19965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6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2F1DC2-CC9C-4BC1-B636-DA8E4FD67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208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30280"/>
            <a:ext cx="3992760" cy="19965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6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200" y="530280"/>
            <a:ext cx="3992760" cy="19965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6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6920"/>
            <a:ext cx="8182080" cy="19965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64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D7EEE5-F466-449C-B7E7-7033518DA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420840" y="433440"/>
            <a:ext cx="8300880" cy="5484600"/>
            <a:chOff x="420840" y="433440"/>
            <a:chExt cx="8300880" cy="5484600"/>
          </a:xfrm>
        </p:grpSpPr>
        <p:pic>
          <p:nvPicPr>
            <p:cNvPr id="2" name="" descr=""/>
            <p:cNvPicPr/>
            <p:nvPr/>
          </p:nvPicPr>
          <p:blipFill>
            <a:blip r:embed="rId3"/>
            <a:stretch/>
          </p:blipFill>
          <p:spPr>
            <a:xfrm>
              <a:off x="420840" y="433440"/>
              <a:ext cx="8300880" cy="548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7520" cy="541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208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30280"/>
            <a:ext cx="8182080" cy="4186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64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spcBef>
                <a:spcPts val="264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343080" indent="-343080">
              <a:spcBef>
                <a:spcPts val="264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343080" indent="-343080">
              <a:spcBef>
                <a:spcPts val="264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343080" indent="-343080">
              <a:spcBef>
                <a:spcPts val="264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343080" indent="-343080">
              <a:spcBef>
                <a:spcPts val="264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343080" indent="-343080">
              <a:spcBef>
                <a:spcPts val="264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400" y="6111720"/>
            <a:ext cx="228420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000" spc="-1" strike="noStrike">
                <a:solidFill>
                  <a:srgbClr val="a7a399"/>
                </a:solidFill>
                <a:latin typeface="Arial"/>
              </a:defRPr>
            </a:lvl1pPr>
          </a:lstStyle>
          <a:p>
            <a:pPr indent="0" algn="r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2"/>
          </p:nvPr>
        </p:nvSpPr>
        <p:spPr>
          <a:xfrm>
            <a:off x="8348400" y="6111720"/>
            <a:ext cx="45540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000" spc="-1" strike="noStrike">
                <a:solidFill>
                  <a:srgbClr val="a7a399"/>
                </a:solidFill>
                <a:latin typeface="Arial"/>
              </a:defRPr>
            </a:lvl1pPr>
          </a:lstStyle>
          <a:p>
            <a:pPr indent="0" algn="r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DC646C9-1F89-49B4-BEA0-92498142F815}" type="slidenum">
              <a:rPr b="0" lang="ru-RU" sz="1000" spc="-1" strike="noStrike">
                <a:solidFill>
                  <a:srgbClr val="a7a3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420840" y="433440"/>
            <a:ext cx="8300880" cy="5484600"/>
            <a:chOff x="420840" y="433440"/>
            <a:chExt cx="8300880" cy="5484600"/>
          </a:xfrm>
        </p:grpSpPr>
        <p:pic>
          <p:nvPicPr>
            <p:cNvPr id="47" name="" descr=""/>
            <p:cNvPicPr/>
            <p:nvPr/>
          </p:nvPicPr>
          <p:blipFill>
            <a:blip r:embed="rId3"/>
            <a:stretch/>
          </p:blipFill>
          <p:spPr>
            <a:xfrm>
              <a:off x="420840" y="433440"/>
              <a:ext cx="8300880" cy="548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52520" y="468360"/>
              <a:ext cx="8237520" cy="541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420840" y="433440"/>
            <a:ext cx="8300880" cy="3106800"/>
            <a:chOff x="420840" y="433440"/>
            <a:chExt cx="8300880" cy="3106800"/>
          </a:xfrm>
        </p:grpSpPr>
        <p:pic>
          <p:nvPicPr>
            <p:cNvPr id="51" name="" descr=""/>
            <p:cNvPicPr/>
            <p:nvPr/>
          </p:nvPicPr>
          <p:blipFill>
            <a:blip r:embed="rId4"/>
            <a:stretch/>
          </p:blipFill>
          <p:spPr>
            <a:xfrm>
              <a:off x="420840" y="433440"/>
              <a:ext cx="8300880" cy="310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460440" y="476280"/>
              <a:ext cx="8221680" cy="30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208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503280" y="530280"/>
            <a:ext cx="8182080" cy="4186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64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spcBef>
                <a:spcPts val="264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343080" indent="-343080">
              <a:spcBef>
                <a:spcPts val="264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343080" indent="-343080">
              <a:spcBef>
                <a:spcPts val="264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343080" indent="-343080">
              <a:spcBef>
                <a:spcPts val="264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343080" indent="-343080">
              <a:spcBef>
                <a:spcPts val="264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343080" indent="-343080">
              <a:spcBef>
                <a:spcPts val="264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3"/>
          </p:nvPr>
        </p:nvSpPr>
        <p:spPr>
          <a:xfrm>
            <a:off x="3776400" y="6111720"/>
            <a:ext cx="228420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000" spc="-1" strike="noStrike">
                <a:solidFill>
                  <a:srgbClr val="a7a399"/>
                </a:solidFill>
                <a:latin typeface="Arial"/>
              </a:defRPr>
            </a:lvl1pPr>
          </a:lstStyle>
          <a:p>
            <a:pPr indent="0" algn="r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sldNum" idx="4"/>
          </p:nvPr>
        </p:nvSpPr>
        <p:spPr>
          <a:xfrm>
            <a:off x="8348400" y="6111720"/>
            <a:ext cx="45540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000" spc="-1" strike="noStrike">
                <a:solidFill>
                  <a:srgbClr val="a7a399"/>
                </a:solidFill>
                <a:latin typeface="Arial"/>
              </a:defRPr>
            </a:lvl1pPr>
          </a:lstStyle>
          <a:p>
            <a:pPr indent="0" algn="r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C6500FA-CD6A-4FEC-9AC9-00B9DE7434F0}" type="slidenum">
              <a:rPr b="0" lang="ru-RU" sz="1000" spc="-1" strike="noStrike">
                <a:solidFill>
                  <a:srgbClr val="a7a3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420840" y="433440"/>
            <a:ext cx="8300880" cy="5484600"/>
            <a:chOff x="420840" y="433440"/>
            <a:chExt cx="8300880" cy="5484600"/>
          </a:xfrm>
        </p:grpSpPr>
        <p:pic>
          <p:nvPicPr>
            <p:cNvPr id="96" name="" descr=""/>
            <p:cNvPicPr/>
            <p:nvPr/>
          </p:nvPicPr>
          <p:blipFill>
            <a:blip r:embed="rId3"/>
            <a:stretch/>
          </p:blipFill>
          <p:spPr>
            <a:xfrm>
              <a:off x="420840" y="433440"/>
              <a:ext cx="8300880" cy="548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452520" y="468360"/>
              <a:ext cx="8237520" cy="541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420840" y="433440"/>
            <a:ext cx="8300880" cy="4338720"/>
            <a:chOff x="420840" y="433440"/>
            <a:chExt cx="8300880" cy="4338720"/>
          </a:xfrm>
        </p:grpSpPr>
        <p:pic>
          <p:nvPicPr>
            <p:cNvPr id="100" name="" descr=""/>
            <p:cNvPicPr/>
            <p:nvPr/>
          </p:nvPicPr>
          <p:blipFill>
            <a:blip r:embed="rId4"/>
            <a:stretch/>
          </p:blipFill>
          <p:spPr>
            <a:xfrm>
              <a:off x="420840" y="433440"/>
              <a:ext cx="8300880" cy="433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/>
            <p:nvPr/>
          </p:nvSpPr>
          <p:spPr>
            <a:xfrm>
              <a:off x="446040" y="461880"/>
              <a:ext cx="8250120" cy="428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208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503280" y="530280"/>
            <a:ext cx="8182080" cy="4186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64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spcBef>
                <a:spcPts val="264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343080" indent="-343080">
              <a:spcBef>
                <a:spcPts val="264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343080" indent="-343080">
              <a:spcBef>
                <a:spcPts val="264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343080" indent="-343080">
              <a:spcBef>
                <a:spcPts val="264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343080" indent="-343080">
              <a:spcBef>
                <a:spcPts val="264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343080" indent="-343080">
              <a:spcBef>
                <a:spcPts val="264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5"/>
          </p:nvPr>
        </p:nvSpPr>
        <p:spPr>
          <a:xfrm>
            <a:off x="3776400" y="6111720"/>
            <a:ext cx="228420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000" spc="-1" strike="noStrike">
                <a:solidFill>
                  <a:srgbClr val="a7a399"/>
                </a:solidFill>
                <a:latin typeface="Arial"/>
              </a:defRPr>
            </a:lvl1pPr>
          </a:lstStyle>
          <a:p>
            <a:pPr indent="0" algn="r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sldNum" idx="6"/>
          </p:nvPr>
        </p:nvSpPr>
        <p:spPr>
          <a:xfrm>
            <a:off x="8348400" y="6111720"/>
            <a:ext cx="45540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000" spc="-1" strike="noStrike">
                <a:solidFill>
                  <a:srgbClr val="a7a399"/>
                </a:solidFill>
                <a:latin typeface="Arial"/>
              </a:defRPr>
            </a:lvl1pPr>
          </a:lstStyle>
          <a:p>
            <a:pPr indent="0" algn="r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17A34C8-6A4D-49DE-92AF-C96BAB2D1521}" type="slidenum">
              <a:rPr b="0" lang="ru-RU" sz="1000" spc="-1" strike="noStrike">
                <a:solidFill>
                  <a:srgbClr val="a7a3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420840" y="433440"/>
            <a:ext cx="8300880" cy="5484600"/>
            <a:chOff x="420840" y="433440"/>
            <a:chExt cx="8300880" cy="5484600"/>
          </a:xfrm>
        </p:grpSpPr>
        <p:pic>
          <p:nvPicPr>
            <p:cNvPr id="145" name="" descr=""/>
            <p:cNvPicPr/>
            <p:nvPr/>
          </p:nvPicPr>
          <p:blipFill>
            <a:blip r:embed="rId3"/>
            <a:stretch/>
          </p:blipFill>
          <p:spPr>
            <a:xfrm>
              <a:off x="420840" y="433440"/>
              <a:ext cx="8300880" cy="548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452520" y="468360"/>
              <a:ext cx="8237520" cy="541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208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503280" y="530280"/>
            <a:ext cx="8182080" cy="4186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64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spcBef>
                <a:spcPts val="264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343080" indent="-343080">
              <a:spcBef>
                <a:spcPts val="264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343080" indent="-343080">
              <a:spcBef>
                <a:spcPts val="264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343080" indent="-343080">
              <a:spcBef>
                <a:spcPts val="264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343080" indent="-343080">
              <a:spcBef>
                <a:spcPts val="264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343080" indent="-343080">
              <a:spcBef>
                <a:spcPts val="264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 type="dt" idx="7"/>
          </p:nvPr>
        </p:nvSpPr>
        <p:spPr>
          <a:xfrm>
            <a:off x="3776400" y="6111720"/>
            <a:ext cx="228420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000" spc="-1" strike="noStrike">
                <a:solidFill>
                  <a:srgbClr val="a7a399"/>
                </a:solidFill>
                <a:latin typeface="Arial"/>
              </a:defRPr>
            </a:lvl1pPr>
          </a:lstStyle>
          <a:p>
            <a:pPr indent="0" algn="r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sldNum" idx="8"/>
          </p:nvPr>
        </p:nvSpPr>
        <p:spPr>
          <a:xfrm>
            <a:off x="8348400" y="6111720"/>
            <a:ext cx="45540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000" spc="-1" strike="noStrike">
                <a:solidFill>
                  <a:srgbClr val="a7a399"/>
                </a:solidFill>
                <a:latin typeface="Arial"/>
              </a:defRPr>
            </a:lvl1pPr>
          </a:lstStyle>
          <a:p>
            <a:pPr indent="0" algn="r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D5482E2-9212-42C6-A2DC-5D8985983CB4}" type="slidenum">
              <a:rPr b="0" lang="ru-RU" sz="1000" spc="-1" strike="noStrike">
                <a:solidFill>
                  <a:srgbClr val="a7a3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420840" y="433440"/>
            <a:ext cx="8300880" cy="5484600"/>
            <a:chOff x="420840" y="433440"/>
            <a:chExt cx="8300880" cy="5484600"/>
          </a:xfrm>
        </p:grpSpPr>
        <p:pic>
          <p:nvPicPr>
            <p:cNvPr id="191" name="" descr=""/>
            <p:cNvPicPr/>
            <p:nvPr/>
          </p:nvPicPr>
          <p:blipFill>
            <a:blip r:embed="rId3"/>
            <a:stretch/>
          </p:blipFill>
          <p:spPr>
            <a:xfrm>
              <a:off x="420840" y="433440"/>
              <a:ext cx="8300880" cy="548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"/>
            <p:cNvSpPr/>
            <p:nvPr/>
          </p:nvSpPr>
          <p:spPr>
            <a:xfrm>
              <a:off x="452520" y="468360"/>
              <a:ext cx="8237520" cy="541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3" name="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/>
            <a:ahLst/>
            <a:rect l="l" t="t" r="r" b="b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cubicBezTo>
                  <a:pt x="2295506" y="0"/>
                  <a:pt x="2324100" y="28594"/>
                  <a:pt x="2324100" y="63866"/>
                </a:cubicBezTo>
                <a:lnTo>
                  <a:pt x="2324100" y="4343400"/>
                </a:lnTo>
                <a:lnTo>
                  <a:pt x="0" y="4343400"/>
                </a:lnTo>
                <a:lnTo>
                  <a:pt x="0" y="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208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503280" y="530280"/>
            <a:ext cx="8182080" cy="4186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0">
              <a:spcBef>
                <a:spcPts val="264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spcBef>
                <a:spcPts val="264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343080" indent="-343080">
              <a:spcBef>
                <a:spcPts val="264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343080" indent="-343080">
              <a:spcBef>
                <a:spcPts val="264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343080" indent="-343080">
              <a:spcBef>
                <a:spcPts val="264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343080" indent="-343080">
              <a:spcBef>
                <a:spcPts val="264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343080" indent="-343080">
              <a:spcBef>
                <a:spcPts val="264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 type="dt" idx="9"/>
          </p:nvPr>
        </p:nvSpPr>
        <p:spPr>
          <a:xfrm>
            <a:off x="3776400" y="6111720"/>
            <a:ext cx="228420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000" spc="-1" strike="noStrike">
                <a:solidFill>
                  <a:srgbClr val="a7a399"/>
                </a:solidFill>
                <a:latin typeface="Arial"/>
              </a:defRPr>
            </a:lvl1pPr>
          </a:lstStyle>
          <a:p>
            <a:pPr indent="0" algn="r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sldNum" idx="10"/>
          </p:nvPr>
        </p:nvSpPr>
        <p:spPr>
          <a:xfrm>
            <a:off x="8348400" y="6111720"/>
            <a:ext cx="45540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000" spc="-1" strike="noStrike">
                <a:solidFill>
                  <a:srgbClr val="a7a399"/>
                </a:solidFill>
                <a:latin typeface="Arial"/>
              </a:defRPr>
            </a:lvl1pPr>
          </a:lstStyle>
          <a:p>
            <a:pPr indent="0" algn="r"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C2CD3CD-5271-40B0-960D-6CB7BC0BD6CE}" type="slidenum">
              <a:rPr b="0" lang="ru-RU" sz="1000" spc="-1" strike="noStrike">
                <a:solidFill>
                  <a:srgbClr val="a7a3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image" Target="../media/image6.gif"/><Relationship Id="rId4" Type="http://schemas.openxmlformats.org/officeDocument/2006/relationships/image" Target="../media/image7.gif"/><Relationship Id="rId5" Type="http://schemas.openxmlformats.org/officeDocument/2006/relationships/image" Target="../media/image8.gif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0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1752480" y="1752480"/>
            <a:ext cx="50594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3333cc"/>
                </a:solidFill>
                <a:latin typeface="Verdana"/>
                <a:ea typeface="Microsoft YaHei"/>
              </a:rPr>
              <a:t>БЛИ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409680" y="4586400"/>
            <a:ext cx="1144440" cy="116208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3"/>
          <a:stretch/>
        </p:blipFill>
        <p:spPr>
          <a:xfrm>
            <a:off x="560520" y="503280"/>
            <a:ext cx="1057320" cy="110484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826400" y="4876920"/>
            <a:ext cx="988920" cy="106668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 rot="180000">
            <a:off x="7570440" y="484200"/>
            <a:ext cx="1022400" cy="114300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1752480" y="2743200"/>
            <a:ext cx="58676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8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500" spc="-1" strike="noStrike">
                <a:solidFill>
                  <a:srgbClr val="3333cc"/>
                </a:solidFill>
                <a:latin typeface="Verdana"/>
              </a:rPr>
              <a:t>За каждый правильный ответ </a:t>
            </a:r>
            <a:r>
              <a:rPr b="1" lang="ru-RU" sz="2500" spc="-1" strike="noStrike" u="sng">
                <a:solidFill>
                  <a:srgbClr val="3333cc"/>
                </a:solidFill>
                <a:uFillTx/>
                <a:latin typeface="Verdana"/>
              </a:rPr>
              <a:t>2 балл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752480" y="762120"/>
            <a:ext cx="50594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5000" spc="-1" strike="noStrike">
                <a:solidFill>
                  <a:srgbClr val="3333cc"/>
                </a:solidFill>
                <a:latin typeface="Verdana"/>
              </a:rPr>
              <a:t>3 ТУР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247760" y="3581280"/>
            <a:ext cx="713412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8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300" spc="-1" strike="noStrike">
                <a:solidFill>
                  <a:srgbClr val="3333cc"/>
                </a:solidFill>
                <a:latin typeface="Verdana"/>
              </a:rPr>
              <a:t>В бланк ответов нужно написать краткий ответ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300" spc="-1" strike="noStrike">
                <a:solidFill>
                  <a:srgbClr val="3333cc"/>
                </a:solidFill>
                <a:latin typeface="Verdana"/>
              </a:rPr>
              <a:t>(число, слово, словосочетание)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fill="hold">
                      <p:stCondLst>
                        <p:cond delay="indefinite"/>
                      </p:stCondLst>
                      <p:childTnLst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" descr=""/>
          <p:cNvPicPr/>
          <p:nvPr/>
        </p:nvPicPr>
        <p:blipFill>
          <a:blip r:embed="rId2"/>
          <a:stretch/>
        </p:blipFill>
        <p:spPr>
          <a:xfrm>
            <a:off x="0" y="914400"/>
            <a:ext cx="9144000" cy="548640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/>
          <p:nvPr/>
        </p:nvSpPr>
        <p:spPr>
          <a:xfrm>
            <a:off x="419040" y="2057400"/>
            <a:ext cx="8305920" cy="2743200"/>
          </a:xfrm>
          <a:prstGeom prst="roundRect">
            <a:avLst>
              <a:gd name="adj" fmla="val 16667"/>
            </a:avLst>
          </a:prstGeom>
          <a:solidFill>
            <a:srgbClr val="ffffff">
              <a:alpha val="80000"/>
            </a:srgbClr>
          </a:solidFill>
          <a:ln w="255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Какую роль название единицы со ста нулями сыграло для сети интернет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362320" y="304920"/>
            <a:ext cx="4419360" cy="609480"/>
          </a:xfrm>
          <a:prstGeom prst="roundRect">
            <a:avLst>
              <a:gd name="adj" fmla="val 16667"/>
            </a:avLst>
          </a:prstGeom>
          <a:solidFill>
            <a:srgbClr val="e5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Arial Black"/>
                <a:ea typeface="Arial"/>
              </a:rPr>
              <a:t>О названия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629400" y="4464000"/>
            <a:ext cx="1398600" cy="1320840"/>
          </a:xfrm>
          <a:prstGeom prst="ellipse">
            <a:avLst/>
          </a:prstGeom>
          <a:solidFill>
            <a:srgbClr val="0070c0"/>
          </a:solidFill>
          <a:ln w="424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935680" y="4419720"/>
            <a:ext cx="2751120" cy="10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6500" spc="-1" strike="noStrike">
                <a:solidFill>
                  <a:srgbClr val="ffffff"/>
                </a:solidFill>
                <a:latin typeface="Georgia"/>
              </a:rPr>
              <a:t>5</a:t>
            </a:r>
            <a:endParaRPr b="0" lang="en-US" sz="6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990720" y="1295280"/>
            <a:ext cx="7010280" cy="2819520"/>
          </a:xfrm>
          <a:prstGeom prst="roundRect">
            <a:avLst>
              <a:gd name="adj" fmla="val 16667"/>
            </a:avLst>
          </a:prstGeom>
          <a:solidFill>
            <a:srgbClr val="ffffff">
              <a:alpha val="80000"/>
            </a:srgbClr>
          </a:solidFill>
          <a:ln w="255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6000" spc="-1" strike="noStrike">
                <a:solidFill>
                  <a:srgbClr val="cc0000"/>
                </a:solidFill>
                <a:latin typeface="Arial Black"/>
                <a:ea typeface="Arial"/>
              </a:rPr>
              <a:t>Гуго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т этого слова произошло название знаменитого поисковика в интернет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286000" y="533520"/>
            <a:ext cx="4343400" cy="685800"/>
          </a:xfrm>
          <a:prstGeom prst="roundRect">
            <a:avLst>
              <a:gd name="adj" fmla="val 16667"/>
            </a:avLst>
          </a:prstGeom>
          <a:solidFill>
            <a:srgbClr val="e5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6600"/>
                </a:solidFill>
                <a:latin typeface="Arial Black"/>
                <a:ea typeface="Arial"/>
              </a:rPr>
              <a:t>отве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2"/>
          <a:srcRect l="0" t="32958" r="0" b="31818"/>
          <a:stretch/>
        </p:blipFill>
        <p:spPr>
          <a:xfrm>
            <a:off x="1219320" y="4191120"/>
            <a:ext cx="6705360" cy="2361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152280" y="76320"/>
            <a:ext cx="8839440" cy="5943600"/>
          </a:xfrm>
          <a:prstGeom prst="roundRect">
            <a:avLst>
              <a:gd name="adj" fmla="val 16667"/>
            </a:avLst>
          </a:prstGeom>
          <a:solidFill>
            <a:srgbClr val="ffffff">
              <a:alpha val="80000"/>
            </a:srgbClr>
          </a:solidFill>
          <a:ln w="255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800" spc="-1" strike="noStrike">
                <a:solidFill>
                  <a:srgbClr val="002060"/>
                </a:solidFill>
                <a:latin typeface="Tahoma"/>
              </a:rPr>
              <a:t>Программисты шутят,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800" spc="-1" strike="noStrike">
                <a:solidFill>
                  <a:srgbClr val="002060"/>
                </a:solidFill>
                <a:latin typeface="Tahoma"/>
              </a:rPr>
              <a:t> </a:t>
            </a:r>
            <a:r>
              <a:rPr b="1" lang="ru-RU" sz="3800" spc="-1" strike="noStrike">
                <a:solidFill>
                  <a:srgbClr val="002060"/>
                </a:solidFill>
                <a:latin typeface="Tahoma"/>
              </a:rPr>
              <a:t>что во Вселенной есть три постоянные величины (они же константы): смерть, налоги и то обстоятельство, что купленный вами сегодня компьютер уже …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295280" y="152280"/>
            <a:ext cx="6629400" cy="533520"/>
          </a:xfrm>
          <a:prstGeom prst="roundRect">
            <a:avLst>
              <a:gd name="adj" fmla="val 16667"/>
            </a:avLst>
          </a:prstGeom>
          <a:solidFill>
            <a:srgbClr val="e5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Arial Black"/>
                <a:ea typeface="Arial"/>
              </a:rPr>
              <a:t>шут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7107120" y="5048280"/>
            <a:ext cx="1398600" cy="1320840"/>
          </a:xfrm>
          <a:prstGeom prst="ellipse">
            <a:avLst/>
          </a:prstGeom>
          <a:solidFill>
            <a:srgbClr val="0070c0"/>
          </a:solidFill>
          <a:ln w="424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392880" y="5162400"/>
            <a:ext cx="2751120" cy="10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6500" spc="-1" strike="noStrike">
                <a:solidFill>
                  <a:srgbClr val="ffffff"/>
                </a:solidFill>
                <a:latin typeface="Georgia"/>
              </a:rPr>
              <a:t>6</a:t>
            </a:r>
            <a:endParaRPr b="0" lang="en-US" sz="6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2362320" y="4648320"/>
            <a:ext cx="5029200" cy="1371600"/>
          </a:xfrm>
          <a:prstGeom prst="roundRect">
            <a:avLst>
              <a:gd name="adj" fmla="val 16667"/>
            </a:avLst>
          </a:prstGeom>
          <a:solidFill>
            <a:srgbClr val="ffffff">
              <a:alpha val="80000"/>
            </a:srgbClr>
          </a:solidFill>
          <a:ln w="255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cc0000"/>
                </a:solidFill>
                <a:latin typeface="Arial Black"/>
                <a:ea typeface="Arial"/>
              </a:rPr>
              <a:t>…</a:t>
            </a:r>
            <a:r>
              <a:rPr b="0" i="1" lang="ru-RU" sz="3200" spc="-1" strike="noStrike">
                <a:solidFill>
                  <a:srgbClr val="cc0000"/>
                </a:solidFill>
                <a:latin typeface="Arial Black"/>
                <a:ea typeface="Arial"/>
              </a:rPr>
              <a:t>устаре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362320" y="304920"/>
            <a:ext cx="4724280" cy="533160"/>
          </a:xfrm>
          <a:prstGeom prst="roundRect">
            <a:avLst>
              <a:gd name="adj" fmla="val 16667"/>
            </a:avLst>
          </a:prstGeom>
          <a:solidFill>
            <a:srgbClr val="e5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6600"/>
                </a:solidFill>
                <a:latin typeface="Arial Black"/>
                <a:ea typeface="Arial"/>
              </a:rPr>
              <a:t>отве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2"/>
          <a:stretch/>
        </p:blipFill>
        <p:spPr>
          <a:xfrm>
            <a:off x="2362320" y="1143000"/>
            <a:ext cx="5076720" cy="3333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1295280" y="152280"/>
            <a:ext cx="6629400" cy="533520"/>
          </a:xfrm>
          <a:prstGeom prst="roundRect">
            <a:avLst>
              <a:gd name="adj" fmla="val 16667"/>
            </a:avLst>
          </a:prstGeom>
          <a:solidFill>
            <a:srgbClr val="e5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Arial Black"/>
                <a:ea typeface="Arial"/>
              </a:rPr>
              <a:t>ребу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107120" y="5048280"/>
            <a:ext cx="1398600" cy="1320840"/>
          </a:xfrm>
          <a:prstGeom prst="ellipse">
            <a:avLst/>
          </a:prstGeom>
          <a:solidFill>
            <a:srgbClr val="0070c0"/>
          </a:solidFill>
          <a:ln w="424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6469200" y="5079960"/>
            <a:ext cx="2751120" cy="10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6500" spc="-1" strike="noStrike">
                <a:solidFill>
                  <a:srgbClr val="ffffff"/>
                </a:solidFill>
                <a:latin typeface="Georgia"/>
              </a:rPr>
              <a:t>7</a:t>
            </a:r>
            <a:endParaRPr b="0" lang="en-US" sz="6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2"/>
          <a:stretch/>
        </p:blipFill>
        <p:spPr>
          <a:xfrm>
            <a:off x="533520" y="1143000"/>
            <a:ext cx="7931160" cy="3124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2362320" y="2590920"/>
            <a:ext cx="5029200" cy="1371600"/>
          </a:xfrm>
          <a:prstGeom prst="roundRect">
            <a:avLst>
              <a:gd name="adj" fmla="val 16667"/>
            </a:avLst>
          </a:prstGeom>
          <a:solidFill>
            <a:srgbClr val="ffffff">
              <a:alpha val="80000"/>
            </a:srgbClr>
          </a:solidFill>
          <a:ln w="255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4000" spc="-1" strike="noStrike">
                <a:solidFill>
                  <a:srgbClr val="002060"/>
                </a:solidFill>
                <a:latin typeface="Arial Black"/>
                <a:ea typeface="Arial"/>
              </a:rPr>
              <a:t>обработ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209680" y="380880"/>
            <a:ext cx="4724640" cy="533520"/>
          </a:xfrm>
          <a:prstGeom prst="roundRect">
            <a:avLst>
              <a:gd name="adj" fmla="val 16667"/>
            </a:avLst>
          </a:prstGeom>
          <a:solidFill>
            <a:srgbClr val="e5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Arial Black"/>
                <a:ea typeface="Arial"/>
              </a:rPr>
              <a:t>отве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1295280" y="152280"/>
            <a:ext cx="6629400" cy="533520"/>
          </a:xfrm>
          <a:prstGeom prst="roundRect">
            <a:avLst>
              <a:gd name="adj" fmla="val 16667"/>
            </a:avLst>
          </a:prstGeom>
          <a:solidFill>
            <a:srgbClr val="e5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Arial Black"/>
                <a:ea typeface="Arial"/>
              </a:rPr>
              <a:t>ЧЕРНЫЙ ящи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107120" y="5048280"/>
            <a:ext cx="1398600" cy="1320840"/>
          </a:xfrm>
          <a:prstGeom prst="ellipse">
            <a:avLst/>
          </a:prstGeom>
          <a:solidFill>
            <a:srgbClr val="0070c0"/>
          </a:solidFill>
          <a:ln w="424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09480" y="149400"/>
            <a:ext cx="763452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3333cc"/>
                </a:solidFill>
                <a:latin typeface="Verdana"/>
              </a:rPr>
              <a:t>Правильный ответ оценивается в 4 бал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09480" y="1488960"/>
            <a:ext cx="8077320" cy="329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500" spc="-1" strike="noStrike">
                <a:solidFill>
                  <a:srgbClr val="002060"/>
                </a:solidFill>
                <a:latin typeface="Verdana"/>
              </a:rPr>
              <a:t>В чёрном ящике находится то, что американский социолог Роберт Линд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500" spc="-1" strike="noStrike">
                <a:solidFill>
                  <a:srgbClr val="002060"/>
                </a:solidFill>
                <a:latin typeface="Verdana"/>
              </a:rPr>
              <a:t>назвал самой большой помехой среди удобств </a:t>
            </a:r>
            <a:r>
              <a:rPr b="0" lang="ru-RU" sz="3500" spc="-1" strike="noStrike">
                <a:solidFill>
                  <a:srgbClr val="002060"/>
                </a:solidFill>
                <a:latin typeface="Verdana"/>
              </a:rPr>
              <a:t>и </a:t>
            </a:r>
            <a:r>
              <a:rPr b="1" lang="ru-RU" sz="3500" spc="-1" strike="noStrike">
                <a:solidFill>
                  <a:srgbClr val="002060"/>
                </a:solidFill>
                <a:latin typeface="Verdana"/>
              </a:rPr>
              <a:t>самым большим удобством среди помех</a:t>
            </a:r>
            <a:r>
              <a:rPr b="0" lang="ru-RU" sz="3500" spc="-1" strike="noStrike">
                <a:solidFill>
                  <a:srgbClr val="002060"/>
                </a:solidFill>
                <a:latin typeface="Verdana"/>
              </a:rPr>
              <a:t>?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469200" y="5079960"/>
            <a:ext cx="2751120" cy="10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6500" spc="-1" strike="noStrike">
                <a:solidFill>
                  <a:srgbClr val="ffffff"/>
                </a:solidFill>
                <a:latin typeface="Georgia"/>
              </a:rPr>
              <a:t>8</a:t>
            </a:r>
            <a:endParaRPr b="0" lang="en-US" sz="6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dur="indefinite" fill="hold">
                      <p:stCondLst>
                        <p:cond delay="indefinite"/>
                      </p:stCondLst>
                      <p:childTnLst>
                        <p:par>
                          <p:cTn id="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2362320" y="2590920"/>
            <a:ext cx="5029200" cy="1371600"/>
          </a:xfrm>
          <a:prstGeom prst="roundRect">
            <a:avLst>
              <a:gd name="adj" fmla="val 16667"/>
            </a:avLst>
          </a:prstGeom>
          <a:solidFill>
            <a:srgbClr val="ffffff">
              <a:alpha val="80000"/>
            </a:srgbClr>
          </a:solidFill>
          <a:ln w="255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4000" spc="-1" strike="noStrike">
                <a:solidFill>
                  <a:srgbClr val="002060"/>
                </a:solidFill>
                <a:latin typeface="Arial Black"/>
                <a:ea typeface="Arial"/>
              </a:rPr>
              <a:t>Мобильный телефо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209680" y="380880"/>
            <a:ext cx="4724640" cy="533520"/>
          </a:xfrm>
          <a:prstGeom prst="roundRect">
            <a:avLst>
              <a:gd name="adj" fmla="val 16667"/>
            </a:avLst>
          </a:prstGeom>
          <a:solidFill>
            <a:srgbClr val="e5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Arial Black"/>
                <a:ea typeface="Arial"/>
              </a:rPr>
              <a:t>отве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2666880" y="152280"/>
            <a:ext cx="3733920" cy="533520"/>
          </a:xfrm>
          <a:prstGeom prst="roundRect">
            <a:avLst>
              <a:gd name="adj" fmla="val 16667"/>
            </a:avLst>
          </a:prstGeom>
          <a:solidFill>
            <a:srgbClr val="e5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Arial Black"/>
                <a:ea typeface="Arial"/>
              </a:rPr>
              <a:t>Про му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762120" y="838080"/>
            <a:ext cx="7696080" cy="2895840"/>
          </a:xfrm>
          <a:prstGeom prst="rect">
            <a:avLst/>
          </a:prstGeom>
          <a:solidFill>
            <a:srgbClr val="fffff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50000"/>
              </a:lnSpc>
              <a:spcBef>
                <a:spcPts val="7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Со стола взлетели три мух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spcBef>
                <a:spcPts val="7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Какова вероятность того, что через 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spcBef>
                <a:spcPts val="7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секунд они будут находиться в одн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spcBef>
                <a:spcPts val="7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лоскости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990720" y="4038480"/>
            <a:ext cx="2746080" cy="17337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229520" y="4478400"/>
            <a:ext cx="1398600" cy="1320840"/>
          </a:xfrm>
          <a:prstGeom prst="ellipse">
            <a:avLst/>
          </a:prstGeom>
          <a:solidFill>
            <a:srgbClr val="0070c0"/>
          </a:solidFill>
          <a:ln w="424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553080" y="4457880"/>
            <a:ext cx="2751120" cy="10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6500" spc="-1" strike="noStrike">
                <a:solidFill>
                  <a:srgbClr val="ffffff"/>
                </a:solidFill>
                <a:latin typeface="Georgia"/>
              </a:rPr>
              <a:t>1</a:t>
            </a:r>
            <a:endParaRPr b="0" lang="en-US" sz="6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fill="hold">
                      <p:stCondLst>
                        <p:cond delay="indefinite"/>
                      </p:stCondLst>
                      <p:childTnLst>
                        <p:par>
                          <p:cTn id="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838080" y="304920"/>
            <a:ext cx="7467840" cy="533160"/>
          </a:xfrm>
          <a:prstGeom prst="roundRect">
            <a:avLst>
              <a:gd name="adj" fmla="val 16667"/>
            </a:avLst>
          </a:prstGeom>
          <a:solidFill>
            <a:srgbClr val="e5ee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cc"/>
                </a:solidFill>
                <a:latin typeface="Arial Black"/>
                <a:ea typeface="Arial"/>
              </a:rPr>
              <a:t>Отве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200400" y="1219320"/>
            <a:ext cx="2819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87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5400" spc="-1" strike="noStrike">
                <a:solidFill>
                  <a:srgbClr val="cc0000"/>
                </a:solidFill>
                <a:latin typeface="Arial Black"/>
                <a:ea typeface="Arial"/>
              </a:rPr>
              <a:t>100%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3733920" y="4495680"/>
            <a:ext cx="2133360" cy="160020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3"/>
          <a:stretch/>
        </p:blipFill>
        <p:spPr>
          <a:xfrm rot="19440000">
            <a:off x="6780240" y="1904760"/>
            <a:ext cx="1447920" cy="108576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4"/>
          <a:stretch/>
        </p:blipFill>
        <p:spPr>
          <a:xfrm rot="1860000">
            <a:off x="992160" y="1828800"/>
            <a:ext cx="2514600" cy="1886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210960" y="1052640"/>
            <a:ext cx="5307120" cy="3708360"/>
          </a:xfrm>
          <a:prstGeom prst="roundRect">
            <a:avLst>
              <a:gd name="adj" fmla="val 16667"/>
            </a:avLst>
          </a:prstGeom>
          <a:solidFill>
            <a:srgbClr val="ffffff">
              <a:alpha val="80000"/>
            </a:srgbClr>
          </a:solidFill>
          <a:ln w="255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Назовите «математическое» направление в изобразительном искусстве начала ХХ ве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219320" y="304920"/>
            <a:ext cx="7086600" cy="533160"/>
          </a:xfrm>
          <a:prstGeom prst="roundRect">
            <a:avLst>
              <a:gd name="adj" fmla="val 16667"/>
            </a:avLst>
          </a:prstGeom>
          <a:solidFill>
            <a:srgbClr val="e5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6600"/>
                </a:solidFill>
                <a:latin typeface="Arial Black"/>
                <a:ea typeface="Arial"/>
              </a:rPr>
              <a:t>Математика и живопис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2"/>
          <a:stretch/>
        </p:blipFill>
        <p:spPr>
          <a:xfrm>
            <a:off x="5486400" y="1143000"/>
            <a:ext cx="3328920" cy="518148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657360" y="5003640"/>
            <a:ext cx="1398600" cy="1320840"/>
          </a:xfrm>
          <a:prstGeom prst="ellipse">
            <a:avLst/>
          </a:prstGeom>
          <a:solidFill>
            <a:srgbClr val="0070c0"/>
          </a:solidFill>
          <a:ln w="424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-19080" y="4983120"/>
            <a:ext cx="2751120" cy="10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6500" spc="-1" strike="noStrike">
                <a:solidFill>
                  <a:srgbClr val="ffffff"/>
                </a:solidFill>
                <a:latin typeface="Georgia"/>
              </a:rPr>
              <a:t>2</a:t>
            </a:r>
            <a:endParaRPr b="0" lang="en-US" sz="6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838080" y="533520"/>
            <a:ext cx="7467840" cy="533160"/>
          </a:xfrm>
          <a:prstGeom prst="roundRect">
            <a:avLst>
              <a:gd name="adj" fmla="val 16667"/>
            </a:avLst>
          </a:prstGeom>
          <a:solidFill>
            <a:srgbClr val="e5ee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cc"/>
                </a:solidFill>
                <a:latin typeface="Arial Black"/>
                <a:ea typeface="Arial"/>
              </a:rPr>
              <a:t>Отве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200400" y="1066680"/>
            <a:ext cx="3352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87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cc0000"/>
                </a:solidFill>
                <a:latin typeface="Arial Black"/>
                <a:ea typeface="Arial"/>
              </a:rPr>
              <a:t>кубизм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676440" y="2590920"/>
            <a:ext cx="2752560" cy="380988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3"/>
          <a:stretch/>
        </p:blipFill>
        <p:spPr>
          <a:xfrm>
            <a:off x="5715000" y="2666880"/>
            <a:ext cx="2495520" cy="38102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09480" y="990720"/>
            <a:ext cx="4419720" cy="4398840"/>
          </a:xfrm>
          <a:prstGeom prst="roundRect">
            <a:avLst>
              <a:gd name="adj" fmla="val 16667"/>
            </a:avLst>
          </a:prstGeom>
          <a:solidFill>
            <a:srgbClr val="ffffff">
              <a:alpha val="80000"/>
            </a:srgbClr>
          </a:solidFill>
          <a:ln w="255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Эта геометрическая фигура занимает центральное место на известной картине Пабло Пикасс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Как называется эта картин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828800" y="152280"/>
            <a:ext cx="5181480" cy="838440"/>
          </a:xfrm>
          <a:prstGeom prst="roundRect">
            <a:avLst>
              <a:gd name="adj" fmla="val 16667"/>
            </a:avLst>
          </a:prstGeom>
          <a:solidFill>
            <a:srgbClr val="e5ee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Arial Black"/>
                <a:ea typeface="Arial"/>
              </a:rPr>
              <a:t>Тело на картин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tretch/>
        </p:blipFill>
        <p:spPr>
          <a:xfrm>
            <a:off x="6324480" y="1316160"/>
            <a:ext cx="1905120" cy="235260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6629400" y="4495680"/>
            <a:ext cx="1398600" cy="1320840"/>
          </a:xfrm>
          <a:prstGeom prst="ellipse">
            <a:avLst/>
          </a:prstGeom>
          <a:solidFill>
            <a:srgbClr val="0070c0"/>
          </a:solidFill>
          <a:ln w="424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5952960" y="4475160"/>
            <a:ext cx="2751480" cy="10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6500" spc="-1" strike="noStrike">
                <a:solidFill>
                  <a:srgbClr val="ffffff"/>
                </a:solidFill>
                <a:latin typeface="Georgia"/>
              </a:rPr>
              <a:t>3</a:t>
            </a:r>
            <a:endParaRPr b="0" lang="en-US" sz="6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3962520" y="1219320"/>
            <a:ext cx="4800600" cy="4419360"/>
          </a:xfrm>
          <a:prstGeom prst="roundRect">
            <a:avLst>
              <a:gd name="adj" fmla="val 16667"/>
            </a:avLst>
          </a:prstGeom>
          <a:solidFill>
            <a:srgbClr val="ffffff">
              <a:alpha val="80000"/>
            </a:srgbClr>
          </a:solidFill>
          <a:ln w="255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5400" spc="-1" strike="noStrike">
                <a:solidFill>
                  <a:srgbClr val="002060"/>
                </a:solidFill>
                <a:latin typeface="Arial Black"/>
                <a:ea typeface="Arial"/>
              </a:rPr>
              <a:t>Шар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4000" spc="-1" strike="noStrike">
                <a:solidFill>
                  <a:srgbClr val="002060"/>
                </a:solidFill>
                <a:latin typeface="Arial Black"/>
                <a:ea typeface="Arial"/>
              </a:rPr>
              <a:t>Пабло Пикасс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4000" spc="-1" strike="noStrike">
                <a:solidFill>
                  <a:srgbClr val="002060"/>
                </a:solidFill>
                <a:latin typeface="Arial Black"/>
                <a:ea typeface="Arial"/>
              </a:rPr>
              <a:t>«Девочка на шаре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247840" y="457200"/>
            <a:ext cx="4648320" cy="533520"/>
          </a:xfrm>
          <a:prstGeom prst="roundRect">
            <a:avLst>
              <a:gd name="adj" fmla="val 16667"/>
            </a:avLst>
          </a:prstGeom>
          <a:solidFill>
            <a:srgbClr val="e5ee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Arial Black"/>
                <a:ea typeface="Arial"/>
              </a:rPr>
              <a:t>отве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2"/>
          <a:stretch/>
        </p:blipFill>
        <p:spPr>
          <a:xfrm>
            <a:off x="457200" y="1447920"/>
            <a:ext cx="3090960" cy="4800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" descr=""/>
          <p:cNvPicPr/>
          <p:nvPr/>
        </p:nvPicPr>
        <p:blipFill>
          <a:blip r:embed="rId2"/>
          <a:srcRect l="0" t="0" r="0" b="3000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/>
          <p:nvPr/>
        </p:nvSpPr>
        <p:spPr>
          <a:xfrm>
            <a:off x="228600" y="1447920"/>
            <a:ext cx="8534520" cy="2971800"/>
          </a:xfrm>
          <a:prstGeom prst="roundRect">
            <a:avLst>
              <a:gd name="adj" fmla="val 16667"/>
            </a:avLst>
          </a:prstGeom>
          <a:solidFill>
            <a:srgbClr val="ffffff">
              <a:alpha val="80000"/>
            </a:srgbClr>
          </a:solidFill>
          <a:ln w="255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Arial"/>
              </a:rPr>
              <a:t>Сколько байт информации необходимо человеку, который понимает всё с полуслова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133720" y="343080"/>
            <a:ext cx="5257800" cy="761760"/>
          </a:xfrm>
          <a:prstGeom prst="roundRect">
            <a:avLst>
              <a:gd name="adj" fmla="val 16667"/>
            </a:avLst>
          </a:prstGeom>
          <a:solidFill>
            <a:srgbClr val="e5ee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Arial Black"/>
                <a:ea typeface="Arial"/>
              </a:rPr>
              <a:t>Поговори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629400" y="4464000"/>
            <a:ext cx="1398600" cy="1320840"/>
          </a:xfrm>
          <a:prstGeom prst="ellipse">
            <a:avLst/>
          </a:prstGeom>
          <a:solidFill>
            <a:srgbClr val="ffffff"/>
          </a:solidFill>
          <a:ln w="424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952960" y="4475160"/>
            <a:ext cx="2751480" cy="10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6500" spc="-1" strike="noStrike">
                <a:solidFill>
                  <a:srgbClr val="002060"/>
                </a:solidFill>
                <a:latin typeface="Georgia"/>
              </a:rPr>
              <a:t>4</a:t>
            </a:r>
            <a:endParaRPr b="0" lang="en-US" sz="6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380880" y="1219320"/>
            <a:ext cx="8229600" cy="3200400"/>
          </a:xfrm>
          <a:prstGeom prst="roundRect">
            <a:avLst>
              <a:gd name="adj" fmla="val 16667"/>
            </a:avLst>
          </a:prstGeom>
          <a:solidFill>
            <a:srgbClr val="ffffff">
              <a:alpha val="80000"/>
            </a:srgbClr>
          </a:solidFill>
          <a:ln w="255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5400" spc="-1" strike="noStrike">
                <a:solidFill>
                  <a:srgbClr val="002060"/>
                </a:solidFill>
                <a:latin typeface="Arial Black"/>
                <a:ea typeface="Arial"/>
              </a:rPr>
              <a:t>Один байт,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5400" spc="-1" strike="noStrike">
                <a:solidFill>
                  <a:srgbClr val="002060"/>
                </a:solidFill>
                <a:latin typeface="Arial Black"/>
                <a:ea typeface="Arial"/>
              </a:rPr>
              <a:t>ведь слово – это два байта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1371600" y="304920"/>
            <a:ext cx="6248520" cy="533160"/>
          </a:xfrm>
          <a:prstGeom prst="roundRect">
            <a:avLst>
              <a:gd name="adj" fmla="val 16667"/>
            </a:avLst>
          </a:prstGeom>
          <a:solidFill>
            <a:srgbClr val="e5ee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6600"/>
                </a:solidFill>
                <a:latin typeface="Arial Black"/>
                <a:ea typeface="Arial"/>
              </a:rPr>
              <a:t>отве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Суворовы</dc:creator>
  <dc:description/>
  <dc:language>en-US</dc:language>
  <cp:lastModifiedBy/>
  <dcterms:modified xsi:type="dcterms:W3CDTF">2025-11-21T07:20:51Z</dcterms:modified>
  <cp:revision>42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